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6F19-56AC-4F0B-9972-95480DFD7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F80B-9617-4666-9E91-F2562BE6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0C63-E668-4731-9FA1-DD1D663A5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3728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0160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27332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3728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60160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C5C4-75B4-4357-8E79-243984FE0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F524-60E6-419E-B914-78CCAA0DF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D9F7-55EC-419E-B38B-EABD662E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B277-2A72-4495-879C-73F290C5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7069-C005-455A-930F-C5EE6D98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D368-C466-4FB0-8B27-7E9EC7B6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186804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1A3D-9361-4D71-B2A8-0038A9FC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B6DC-5E62-4909-96FC-2EFCD941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924C-E5F6-412A-80FF-B0F50288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C8CC-C91E-4D1C-8AF7-209E92FC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36FB-9B68-472A-A6A6-F7B49F3B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4300-2D79-4E58-AE0B-F36CD31F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EA9B-CB3C-41C5-95E9-2F45C9841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728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60160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27332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728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60160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2A94-0458-4D80-845A-AB761C141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5B8B-4FBE-4EA1-A868-6A06F4BB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17A8-8CDD-4C1B-8CAB-F2CBB120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DEC0-9F6B-4EA7-90D6-6024CB9D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186804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8A8B-F8B7-4F46-B8B1-527F1381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1FF3-3501-47FA-9176-898DC423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59F7-1BFA-470B-B295-2B6F0A53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DDC8-168D-482E-BE86-6949957A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013E-B170-4636-86C5-71A38DC17866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EC0F-C3D4-4656-A211-E85BF0D6950C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brança pelo uso dos recursos hídr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042920" y="3728880"/>
            <a:ext cx="7058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roposta aprovada pelos Comitês PCJ em 21/10/2005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dições Gera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2060640"/>
            <a:ext cx="83516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ício: a partir de 1</a:t>
            </a:r>
            <a:r>
              <a:rPr b="0" lang="en-US" sz="2400" spc="-1" strike="noStrike" baseline="30000">
                <a:solidFill>
                  <a:srgbClr val="545472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de janeiro de 2006, com Plano e Agência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Todos usos significantes: CT-OL usos insignificantes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rogressividade: 60% (1</a:t>
            </a:r>
            <a:r>
              <a:rPr b="0" lang="en-US" sz="2400" spc="-1" strike="noStrike" baseline="30000">
                <a:solidFill>
                  <a:srgbClr val="545472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ano) 75% (2</a:t>
            </a:r>
            <a:r>
              <a:rPr b="0" lang="en-US" sz="2400" spc="-1" strike="noStrike" baseline="30000">
                <a:solidFill>
                  <a:srgbClr val="545472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ano) 100% (3</a:t>
            </a:r>
            <a:r>
              <a:rPr b="0" lang="en-US" sz="2400" spc="-1" strike="noStrike" baseline="30000">
                <a:solidFill>
                  <a:srgbClr val="545472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ano)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Validade da proposta: 2 anos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Beneficiários: todos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ondicionantes para acesso e indicação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rocesso de regularização dos usos e campanha de divulgação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dições Gera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2060640"/>
            <a:ext cx="8351640" cy="38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“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Contribuição Regional Voluntária - CRV” </a:t>
            </a:r>
            <a:r>
              <a:rPr b="0" lang="pt-BR" sz="2400" spc="-1" strike="noStrike">
                <a:solidFill>
                  <a:srgbClr val="545472"/>
                </a:solidFill>
                <a:latin typeface="Wingdings"/>
                <a:ea typeface="Wingdings"/>
              </a:rPr>
              <a:t>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 FEHIDRO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CRV </a:t>
            </a:r>
            <a:r>
              <a:rPr b="0" lang="pt-BR" sz="2400" spc="-1" strike="noStrike">
                <a:solidFill>
                  <a:srgbClr val="545472"/>
                </a:solidFill>
                <a:latin typeface="Wingdings"/>
                <a:ea typeface="Wingdings"/>
              </a:rPr>
              <a:t>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 pontuação extra: PE = PE</a:t>
            </a:r>
            <a:r>
              <a:rPr b="0" lang="pt-BR" sz="2400" spc="-1" strike="noStrike" baseline="-25000">
                <a:solidFill>
                  <a:srgbClr val="545472"/>
                </a:solidFill>
                <a:latin typeface="Times New Roman"/>
              </a:rPr>
              <a:t>max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 x K</a:t>
            </a:r>
            <a:r>
              <a:rPr b="0" lang="pt-BR" sz="2400" spc="-1" strike="noStrike" baseline="-25000">
                <a:solidFill>
                  <a:srgbClr val="545472"/>
                </a:solidFill>
                <a:latin typeface="Times New Roman"/>
              </a:rPr>
              <a:t>PE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CRV extingue-se com a cobrança estadual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Correção de valores e compensação no ano posterior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Pagamento com atraso: multa de 2% e SELIC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Aplicação $: Programas do Plano e regras de hierarquização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588000" y="2460600"/>
                <a:ext cx="21607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V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órmul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marL="60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A cobrança será feita levando-se em consideração os seguintes aspectos: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volume anual de água captado do corpo hídrico, que será denotado por “Q</a:t>
            </a:r>
            <a:r>
              <a:rPr b="0" lang="pt-BR" sz="2000" spc="-1" strike="noStrike" baseline="-25000">
                <a:solidFill>
                  <a:srgbClr val="545472"/>
                </a:solidFill>
                <a:latin typeface="Times New Roman"/>
              </a:rPr>
              <a:t>cap</a:t>
            </a: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”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volume anual de água captada e transposta para outras bacias, que será denotado por “Q</a:t>
            </a:r>
            <a:r>
              <a:rPr b="0" lang="pt-BR" sz="2000" spc="-1" strike="noStrike" baseline="-25000">
                <a:solidFill>
                  <a:srgbClr val="545472"/>
                </a:solidFill>
                <a:latin typeface="Times New Roman"/>
              </a:rPr>
              <a:t>transp</a:t>
            </a: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”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volume anual lançado no corpo hídrico, que será denotado por “Q</a:t>
            </a:r>
            <a:r>
              <a:rPr b="0" lang="pt-BR" sz="2000" spc="-1" strike="noStrike" baseline="-25000">
                <a:solidFill>
                  <a:srgbClr val="545472"/>
                </a:solidFill>
                <a:latin typeface="Times New Roman"/>
              </a:rPr>
              <a:t>lanç</a:t>
            </a: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”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volume anual de água consumido do corpo hídrico (diferença entre o volume captado e o lançado), que será denotado por “Qcons”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carga orgânica lançada no corpo hídrico, denotada por “CO</a:t>
            </a:r>
            <a:r>
              <a:rPr b="0" lang="pt-BR" sz="2000" spc="-1" strike="noStrike" baseline="-25000">
                <a:solidFill>
                  <a:srgbClr val="545472"/>
                </a:solidFill>
                <a:latin typeface="Times New Roman"/>
              </a:rPr>
              <a:t>DBO</a:t>
            </a: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”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lemen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2060640"/>
            <a:ext cx="8496360" cy="36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Cobrança sobre a captação: K</a:t>
            </a:r>
            <a:r>
              <a:rPr b="0" lang="pt-BR" sz="2400" spc="-1" strike="noStrike" baseline="-25000">
                <a:solidFill>
                  <a:srgbClr val="545472"/>
                </a:solidFill>
                <a:latin typeface="Times New Roman"/>
              </a:rPr>
              <a:t>outorga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; K</a:t>
            </a:r>
            <a:r>
              <a:rPr b="0" lang="pt-BR" sz="2400" spc="-1" strike="noStrike" baseline="-25000">
                <a:solidFill>
                  <a:srgbClr val="545472"/>
                </a:solidFill>
                <a:latin typeface="Times New Roman"/>
              </a:rPr>
              <a:t>medição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 e K</a:t>
            </a:r>
            <a:r>
              <a:rPr b="0" lang="pt-BR" sz="2400" spc="-1" strike="noStrike" baseline="-25000">
                <a:solidFill>
                  <a:srgbClr val="545472"/>
                </a:solidFill>
                <a:latin typeface="Times New Roman"/>
              </a:rPr>
              <a:t>classe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Cobrança sobre o consumo: K</a:t>
            </a:r>
            <a:r>
              <a:rPr b="0" lang="pt-BR" sz="2400" spc="-1" strike="noStrike" baseline="-25000">
                <a:solidFill>
                  <a:srgbClr val="545472"/>
                </a:solidFill>
                <a:latin typeface="Times New Roman"/>
              </a:rPr>
              <a:t>retorno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 p/ irrigação </a:t>
            </a:r>
            <a:r>
              <a:rPr b="0" lang="pt-BR" sz="2400" spc="-1" strike="noStrike">
                <a:solidFill>
                  <a:srgbClr val="545472"/>
                </a:solidFill>
                <a:latin typeface="Wingdings"/>
                <a:ea typeface="Wingdings"/>
              </a:rPr>
              <a:t>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 CT-Rural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Cobrança pela poluição: DBO (2 anos), após: acrescentar carga inorgânica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Cobrança de PCHs: Energia: K</a:t>
            </a:r>
            <a:r>
              <a:rPr b="0" lang="pt-BR" sz="2400" spc="-1" strike="noStrike" baseline="-25000">
                <a:solidFill>
                  <a:srgbClr val="545472"/>
                </a:solidFill>
                <a:latin typeface="Times New Roman"/>
              </a:rPr>
              <a:t>nominal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; K</a:t>
            </a:r>
            <a:r>
              <a:rPr b="0" lang="pt-BR" sz="2400" spc="-1" strike="noStrike" baseline="-25000">
                <a:solidFill>
                  <a:srgbClr val="545472"/>
                </a:solidFill>
                <a:latin typeface="Times New Roman"/>
              </a:rPr>
              <a:t>gerada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; 0,01TAR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Cobrança Total: </a:t>
            </a:r>
            <a:r>
              <a:rPr b="0" lang="el-GR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Σ</a:t>
            </a:r>
            <a:r>
              <a:rPr b="0" lang="pt-BR" sz="2400" spc="-1" strike="noStrike" baseline="-25000">
                <a:solidFill>
                  <a:srgbClr val="545472"/>
                </a:solidFill>
                <a:latin typeface="Times New Roman"/>
                <a:ea typeface="Times New Roman"/>
              </a:rPr>
              <a:t>cobranças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x K</a:t>
            </a:r>
            <a:r>
              <a:rPr b="0" lang="pt-BR" sz="2400" spc="-1" strike="noStrike" baseline="-25000">
                <a:solidFill>
                  <a:srgbClr val="545472"/>
                </a:solidFill>
                <a:latin typeface="Times New Roman"/>
                <a:ea typeface="Times New Roman"/>
              </a:rPr>
              <a:t>Gestão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= 1 ou 0 (definido pelos Comitês PCJ = f(garantia de retorno do $)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lemen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060640"/>
            <a:ext cx="83516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Parcelas e valor mínimo: R$ 20,00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Abatimento do Valor devido a CO </a:t>
            </a:r>
            <a:r>
              <a:rPr b="0" lang="pt-BR" sz="2400" spc="-1" strike="noStrike">
                <a:solidFill>
                  <a:srgbClr val="545472"/>
                </a:solidFill>
                <a:latin typeface="Wingdings"/>
                <a:ea typeface="Wingdings"/>
              </a:rPr>
              <a:t>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 ações do Plano de Bacias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Abatimento do valor devido pelo setor rural: CT-Rural p/ definir ações passíveis de abatimento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Regularização de débitos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alores dos PUB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33520" y="1905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2175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50324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52280" y="1905120"/>
            <a:ext cx="8839440" cy="37954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Estimativa preliminar de arrecadaçã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533520" y="1905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2175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50324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005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380360" y="5084640"/>
            <a:ext cx="1763640" cy="10382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642160" cy="4967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11:28:47Z</dcterms:created>
  <dc:creator>lmoretti</dc:creator>
  <dc:description/>
  <dc:language>en-US</dc:language>
  <cp:lastModifiedBy>Windows</cp:lastModifiedBy>
  <dcterms:modified xsi:type="dcterms:W3CDTF">2005-11-06T19:30:15Z</dcterms:modified>
  <cp:revision>15</cp:revision>
  <dc:subject/>
  <dc:title>Cobrança pelo uso das águas</dc:title>
</cp:coreProperties>
</file>